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6B8-E4CC-466F-BD7F-134DF17A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5A8-3110-4431-8F03-ADFCF587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155-BC48-41FF-9F1B-7769EDF7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B6F-1A82-4EB2-B128-0AA77520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DCE-8F63-44C3-9F6C-16E63FF6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329-ADAB-4594-B0BD-5938616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B67-A342-4C61-980D-8D3539E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FA1-97C4-47FF-845D-70AB94E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A3A-1E82-4CB2-B3C0-6C921AD3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645-4497-4120-B1B5-5DFB0A6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8C4-EA4A-4F2F-8249-DA4C3D9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360-DF0E-4A8D-A79E-BC7D7BE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B53-4BFA-40DE-913F-2BFB4CC47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4640" y="71280"/>
            <a:ext cx="8290080" cy="9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uatro soluciones simples y desafi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19280" y="1125000"/>
            <a:ext cx="7058160" cy="45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apostasí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es neutralizada o disminuye cuando la Iglesia está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unid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activa y es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crític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 siempre existirán, pero pierden su poder cuando se encuentran con un pueblo maduro y firmemente basado en la 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Palabra de Di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Tibiez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o soporta el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calor del Espíritu Sant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de una iglesia consagrada a D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l aumento de los 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Pastor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es lento, pero el crecimiento de los </a:t>
            </a: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Maestr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de ES es proporcional al crecimiento de la igl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260280"/>
            <a:ext cx="648000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LA ESCUELA SABÁTICA ES LA PIEZA CLAVE, pues tien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2133720"/>
            <a:ext cx="6697800" cy="3528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Un Programa mundial y es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Un Programa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El mejor ambiente para la  particip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Un ambiente inf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Y un ambiente excelente para la confrater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55736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773360"/>
            <a:ext cx="6696000" cy="41680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  <a:ea typeface="宋体"/>
              </a:rPr>
              <a:t>La obra de la Escuela Sabática es importante, y todos los que se interesan </a:t>
            </a:r>
            <a:r>
              <a:rPr b="1" lang="es-AR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en la verdad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  <a:ea typeface="宋体"/>
              </a:rPr>
              <a:t> deben esforzarse por hacerla prosperar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Ellen White, </a:t>
            </a:r>
            <a:r>
              <a:rPr b="1" i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CSES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宋体"/>
              </a:rPr>
              <a:t>, pág.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33360"/>
            <a:ext cx="633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mportancia de la Escuela Sab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9800" y="44280"/>
            <a:ext cx="7199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El Maestro es la Pieza Cl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1989000"/>
            <a:ext cx="6192720" cy="4319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stá unas 70 horas al año, como mínimo, con sus 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irige reuniones con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participación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, ambiente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informal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fraterno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Tiene una “Mini – Iglesia”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050920" y="1627200"/>
            <a:ext cx="6842160" cy="4897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n el programa oficial de la ES en la  DSA, el maestro tiene 55 minut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(1) Un momento de Con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fraternización,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10 Minutos, donde puede actuar como “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Pastor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”.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(2) Un momento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isionero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, de otros 10 Minutos donde actúa como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irector o “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Promotor Misionero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(3) Un momento de Repaso de la Lección,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35 Minutos, donde actúa como “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Profesor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44280"/>
            <a:ext cx="7199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El Maestro es la Pieza Cl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09640" y="404640"/>
          <a:ext cx="6062760" cy="600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9640" y="404640"/>
                    <a:ext cx="606276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 txBox="1"/>
          <p:nvPr/>
        </p:nvSpPr>
        <p:spPr>
          <a:xfrm>
            <a:off x="250920" y="54936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gram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08720" y="4076640"/>
            <a:ext cx="15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s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00720" y="5445000"/>
            <a:ext cx="136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mo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4797360"/>
            <a:ext cx="180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fes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95640" y="274680"/>
            <a:ext cx="6840360" cy="6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Las 3 “P” del Maestro de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24360" y="1917720"/>
            <a:ext cx="35589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7008" dir="3183908" blurRad="0" rotWithShape="0">
                    <a:srgbClr val="000000"/>
                  </a:outerShdw>
                </a:effectLst>
                <a:latin typeface="Arial Black"/>
              </a:rPr>
              <a:t>3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7008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780000" y="1700280"/>
            <a:ext cx="35589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7008" dir="3183908" blurRad="0" rotWithShape="0">
                    <a:srgbClr val="000000"/>
                  </a:outerShdw>
                </a:effectLst>
                <a:latin typeface="Arial Black"/>
              </a:rPr>
              <a:t>1-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7008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º “P” – El Maestro como un “PAS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7640" y="1424160"/>
            <a:ext cx="698508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1. Tenemos Pocos Pa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n 1968 teníamos 531 pastores en América del Sur, y en 2003, aumentó a 1.9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n 1968 teníamos 228.167 miembros y en  2003 llegamos a 2.273.2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Proporcionalmente, en 1968 teníamos un pastor cada 430 miembros, y ahora tenemos un pastor cada 1.156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n 1968 cada pastor en América del Sur tenía un promedio de 1,75 iglesias, y ahora es cada 8,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2060640"/>
          <a:ext cx="8713800" cy="3816360"/>
        </p:xfrm>
        <a:graphic>
          <a:graphicData uri="http://schemas.openxmlformats.org/drawingml/2006/table">
            <a:tbl>
              <a:tblPr/>
              <a:tblGrid>
                <a:gridCol w="1877760"/>
                <a:gridCol w="828720"/>
                <a:gridCol w="827280"/>
                <a:gridCol w="826920"/>
                <a:gridCol w="827280"/>
                <a:gridCol w="828720"/>
                <a:gridCol w="826920"/>
                <a:gridCol w="827280"/>
                <a:gridCol w="1042920"/>
              </a:tblGrid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tores Aspir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tores Orden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s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 txBox="1"/>
          <p:nvPr/>
        </p:nvSpPr>
        <p:spPr>
          <a:xfrm>
            <a:off x="3419640" y="1386000"/>
            <a:ext cx="4537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recimiento de los Pastor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27280" y="6021360"/>
            <a:ext cx="403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l crecimiento fue del 370%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60280"/>
            <a:ext cx="61214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OCO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Pa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6920" y="358920"/>
            <a:ext cx="655308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EN SUDAMÉRICA TENEMO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10.050 Congreg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8.545 Iglesias Organ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66.269 Pequeños Gru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Trabajamos en 8 Paí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2.575.141 Miembros de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2.475.969 Miembros da Esc. S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2.021 Pas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175.254 Maestros de 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11280" y="260280"/>
            <a:ext cx="61214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OCO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Pa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2560" y="2421000"/>
          <a:ext cx="8066160" cy="2305080"/>
        </p:xfrm>
        <a:graphic>
          <a:graphicData uri="http://schemas.openxmlformats.org/drawingml/2006/table">
            <a:tbl>
              <a:tblPr/>
              <a:tblGrid>
                <a:gridCol w="1119240"/>
                <a:gridCol w="905040"/>
                <a:gridCol w="903240"/>
                <a:gridCol w="904680"/>
                <a:gridCol w="903240"/>
                <a:gridCol w="998640"/>
                <a:gridCol w="998640"/>
                <a:gridCol w="1333440"/>
              </a:tblGrid>
              <a:tr h="1152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228.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326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431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688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877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2497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1581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Arial"/>
                          <a:ea typeface="Arial"/>
                        </a:rPr>
                        <a:t>2.273.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 txBox="1"/>
          <p:nvPr/>
        </p:nvSpPr>
        <p:spPr>
          <a:xfrm>
            <a:off x="2843280" y="1700280"/>
            <a:ext cx="42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ecimiento de la Membresía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84360" y="5157720"/>
            <a:ext cx="410544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l Crecimento fue de un 993%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564000" y="1771560"/>
            <a:ext cx="3313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porcion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2492280"/>
          <a:ext cx="8929800" cy="2567160"/>
        </p:xfrm>
        <a:graphic>
          <a:graphicData uri="http://schemas.openxmlformats.org/drawingml/2006/table">
            <a:tbl>
              <a:tblPr/>
              <a:tblGrid>
                <a:gridCol w="1952640"/>
                <a:gridCol w="854280"/>
                <a:gridCol w="853920"/>
                <a:gridCol w="854280"/>
                <a:gridCol w="853920"/>
                <a:gridCol w="853920"/>
                <a:gridCol w="854280"/>
                <a:gridCol w="853920"/>
                <a:gridCol w="998640"/>
              </a:tblGrid>
              <a:tr h="100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glesias X Pa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8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embros X Pa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ccff33"/>
                          </a:solidFill>
                          <a:latin typeface="Arial"/>
                          <a:ea typeface="Arial"/>
                        </a:rPr>
                        <a:t>1.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2268360" y="5445000"/>
            <a:ext cx="23767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astores = 370%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3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51640" y="5445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Miembros = 993%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3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60280"/>
            <a:ext cx="61214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OCO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Pa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95640" y="2421000"/>
            <a:ext cx="6697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ENEMOS SOLO 2.021 PASTOR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3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ERO TENEMOS 175.254 MAESTROS DE 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3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260280"/>
            <a:ext cx="61214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OCO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Pa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enemos </a:t>
            </a:r>
            <a:r>
              <a:rPr b="1" lang="es-AR" sz="32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cos pas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No van a aumentar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Cada vez será pe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En algún momento no los  tendremos 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º “P” – El Maestro como un “PAS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24000" y="1628640"/>
            <a:ext cx="6696000" cy="4525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26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2. Los Maestros pueden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rsonalizar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mejor su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l pastor tiene un promedio de 1.156 en 8.8 igle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l maestro de ES tiene un promedio de  13.91 miembros en una sol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¿Quien podrá personalizar mejor la atención pastoral? El pastor con 1.156 o el maestro con casi 14 alum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Además el maestro generalmente vive más cerca de los miembros que el Pa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º “P” – El Maestro como un “PAS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40000" y="1267920"/>
            <a:ext cx="6408720" cy="5434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5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3. En el futuro tendremos mas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Cuando la crisis Sábado - Domingo este en su apogeo llegará el momento en que perderemos algunos de nuestros hermanos, templos, instituciones y hasta pas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Aunque el enemigo pueda destruir  “templos”… jamás podrá destruir “la Igles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n ese momento cada maestro deberá hacerse cargo de su “Iglesia”… (la clase de 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º “P” – El Maestro como un “PAS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65160" y="5516640"/>
          <a:ext cx="731520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65160" y="5516640"/>
                    <a:ext cx="7315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484360" y="1628640"/>
            <a:ext cx="62643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宋体"/>
              </a:rPr>
              <a:t>“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宋体"/>
              </a:rPr>
              <a:t>No se ha de animar a nuestros ministros a revolotear sobre las iglesias para repetir a los creyentes, semana tras semana, las mismas verdades. Poseemos una verdad  preciosa y salvador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51280" y="1844640"/>
            <a:ext cx="35593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7008" dir="3183908" blurRad="0" rotWithShape="0">
                    <a:srgbClr val="000000"/>
                  </a:outerShdw>
                </a:effectLst>
                <a:latin typeface="Arial Black"/>
              </a:rPr>
              <a:t>2-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7008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840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2 – El Maestro como un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5280" y="1639800"/>
            <a:ext cx="6769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1. El maestro debe promover la  </a:t>
            </a:r>
            <a:r>
              <a:rPr b="0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RTICIPACIÓN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e sus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No solo porque Dios lo “necesita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Sino porque el trabajo por otros es el mejor antídoto que se conoce contra la apostasía, el desánimo y el desal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sarrolla el cará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155736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2800" y="1052640"/>
            <a:ext cx="37512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1484280"/>
            <a:ext cx="612000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A menos que estemos avanz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diariamente en la ejemplific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i="1" lang="es-AR" sz="2400" spc="-1" strike="noStrike" u="sng">
                <a:solidFill>
                  <a:srgbClr val="ff00ff"/>
                </a:solidFill>
                <a:uFillTx/>
                <a:latin typeface="Arial"/>
              </a:rPr>
              <a:t>virtudes cristianas activas</a:t>
            </a: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no estaremos en condicion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recono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la manifestación del Espíritu S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en la lluvia Tardí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Alrededor, otros corazones la podr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estar recibiendo, pero nosotros no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advertiremos ni la recibiremos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llen G. White, </a:t>
            </a: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Testimonios para Ministro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, pág.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47628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60280"/>
            <a:ext cx="6840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2 – El Maestro como un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84360" y="191628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Agradecidos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27640" y="1628640"/>
            <a:ext cx="1800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0720" y="3357720"/>
            <a:ext cx="180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NO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27280" y="3860640"/>
            <a:ext cx="28209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atisfechos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124000" y="1989000"/>
            <a:ext cx="7020000" cy="33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2. Debe desarrollar el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OTENCIAL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de cada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El se debe preocupar por el desarrollo de los dones de todos sus alum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840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2 – El Maestro como un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68000" y="1855800"/>
            <a:ext cx="6551640" cy="40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3. Debe </a:t>
            </a:r>
            <a:r>
              <a:rPr b="1" lang="es-AR" sz="2400" spc="-1" strike="noStrike" u="sng">
                <a:solidFill>
                  <a:srgbClr val="ccff99"/>
                </a:solidFill>
                <a:uFillTx/>
                <a:latin typeface="Arial"/>
              </a:rPr>
              <a:t>P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ROMOVE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la suscripción a la lección de la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Algunos de nuestros alumnos no tienen la lección y consecuentemente no estudian di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Muchos no lo hacen por la sencilla razón de que no captaron la importancia de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840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2 – El Maestro como un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24360" y="1844640"/>
            <a:ext cx="355896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7008" dir="3183908" blurRad="0" rotWithShape="0">
                    <a:srgbClr val="000000"/>
                  </a:outerShdw>
                </a:effectLst>
                <a:latin typeface="Arial Black"/>
              </a:rPr>
              <a:t>3-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7008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68360" y="1855440"/>
            <a:ext cx="6624720" cy="459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. Debe hacer  </a:t>
            </a:r>
            <a:r>
              <a:rPr b="1" lang="es-AR" sz="24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ENSA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a sus alum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No todo lo que se “enseña”, se “apren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Por mucho tiempo, hemos dado más importancia a la enseñanza que al aprendizaj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Nuestra sociedad tiene la tendencia a pensar cada vez me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1800"/>
              </a:spcBef>
              <a:buClr>
                <a:srgbClr val="ccff99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ff99"/>
                </a:solidFill>
                <a:latin typeface="Arial"/>
              </a:rPr>
              <a:t>En la ES nuestro blanco es que cada alumno piense y que cada vez lo haga con más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981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10320" y="1052640"/>
            <a:ext cx="3433680" cy="388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1341360"/>
            <a:ext cx="6624360" cy="521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宋体"/>
              </a:rPr>
              <a:t>Cada ser humano creado a la imagen de Dios, es dotado de cierta facultad propia del creador... la facultad de pensar y actuar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宋体"/>
              </a:rPr>
              <a:t>La obra de la verdadera educación es desarrollar esta facultad, adiestrar a los Jóvenes, para que sean pensantes y no meros reflectores de los pensamientos de otro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ffffff"/>
                </a:solidFill>
                <a:latin typeface="Arial"/>
                <a:ea typeface="宋体"/>
              </a:rPr>
              <a:t>Educación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宋体"/>
              </a:rPr>
              <a:t>, pág. 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404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68000" y="1855800"/>
            <a:ext cx="66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2. Debe hacer </a:t>
            </a:r>
            <a:r>
              <a:rPr b="1" lang="es-AR" sz="32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ARTICIPAR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a sus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Un viejo refrán dice: “Lo que escucho, olvido; lo que veo, recuerdo; lo que hago, aprend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vimos en una sociedad que ama la participación, por lo tanto debemos tener clases particip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339640" y="1844640"/>
            <a:ext cx="6553080" cy="410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71440" indent="0" algn="ctr">
              <a:spcBef>
                <a:spcPts val="700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Es muy posible y fácil caer en dos situaciones extr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00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1) El Maestro hace del estudio de la Lección un “Sermó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2100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2) La Clase donde todos hablan lo que les parece, sin dar lugar a escuchar “el parecer de Di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40464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48000" y="40464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No es el mejor plan que s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ó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lo los maestros hablen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 Ellos deberían inducir a los miembros de la clase a 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decir lo que saben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 Y entonces el maestro, con pocas palabras y breves observaciones o ilustraciones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bería imprimir la lección en sus mentes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CSES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pág. 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050560" y="1268280"/>
            <a:ext cx="6985080" cy="51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. Debe ayudar a sus miembros a  </a:t>
            </a:r>
            <a:r>
              <a:rPr b="1" lang="es-AR" sz="2800" spc="-1" strike="noStrike" u="sng">
                <a:solidFill>
                  <a:srgbClr val="ff0066"/>
                </a:solidFill>
                <a:uFillTx/>
                <a:latin typeface="Arial"/>
              </a:rPr>
              <a:t>P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RACTICAR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lo que fue apr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Según el pastor Betz, hay cuatro niveles de aprendizaje: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1) La Memor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2) La Compr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3) Poder extraer una enseñ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(4) Poner en Práctica lo que fue apr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3300480" cy="5661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00720" y="2997360"/>
            <a:ext cx="4233600" cy="1756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El Mod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del T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189000"/>
            <a:ext cx="7127640" cy="61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	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TAMBIÉN SO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Primera División en Cr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Segunda División en Miemb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Somos el 18,47 % d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Segunda División en enviar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Misioneros al Ex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◘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Primera División en Baut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44280"/>
            <a:ext cx="2435400" cy="41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6769080" cy="338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43280" y="6165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Vías del T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16040" y="3200400"/>
            <a:ext cx="5943600" cy="2971800"/>
            <a:chOff x="2516040" y="3200400"/>
            <a:chExt cx="5943600" cy="2971800"/>
          </a:xfrm>
        </p:grpSpPr>
        <p:grpSp>
          <p:nvGrpSpPr>
            <p:cNvPr id="146" name=""/>
            <p:cNvGrpSpPr/>
            <p:nvPr/>
          </p:nvGrpSpPr>
          <p:grpSpPr>
            <a:xfrm>
              <a:off x="2516040" y="3200400"/>
              <a:ext cx="5943600" cy="2971800"/>
              <a:chOff x="2516040" y="3200400"/>
              <a:chExt cx="5943600" cy="2971800"/>
            </a:xfrm>
          </p:grpSpPr>
          <p:pic>
            <p:nvPicPr>
              <p:cNvPr id="1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6040" y="3200400"/>
                <a:ext cx="53316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  <p:pic>
            <p:nvPicPr>
              <p:cNvPr id="1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9040" y="3200400"/>
                <a:ext cx="53316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  <p:pic>
            <p:nvPicPr>
              <p:cNvPr id="1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49400" y="3200400"/>
                <a:ext cx="53352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  <p:pic>
            <p:nvPicPr>
              <p:cNvPr id="1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6440" y="3200400"/>
                <a:ext cx="53316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  <p:pic>
            <p:nvPicPr>
              <p:cNvPr id="1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9440" y="3200400"/>
                <a:ext cx="53316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  <p:pic>
            <p:nvPicPr>
              <p:cNvPr id="15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926120" y="3200400"/>
                <a:ext cx="533520" cy="2971800"/>
              </a:xfrm>
              <a:prstGeom prst="rect">
                <a:avLst/>
              </a:prstGeom>
              <a:ln w="0">
                <a:noFill/>
              </a:ln>
              <a:effectLst>
                <a:outerShdw dist="127008" dir="2216091" blurRad="0" rotWithShape="0">
                  <a:srgbClr val="808080"/>
                </a:outerShdw>
              </a:effectLst>
            </p:spPr>
          </p:pic>
        </p:grpSp>
        <p:sp>
          <p:nvSpPr>
            <p:cNvPr id="153" name=""/>
            <p:cNvSpPr/>
            <p:nvPr/>
          </p:nvSpPr>
          <p:spPr>
            <a:xfrm rot="16200000">
              <a:off x="7544520" y="45673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Durm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344600" y="3581280"/>
            <a:ext cx="762012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37587" dir="337859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5486400"/>
            <a:ext cx="762012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37587" dir="337859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124000" y="44280"/>
            <a:ext cx="243540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2084400" y="3200400"/>
            <a:ext cx="5943600" cy="2971800"/>
            <a:chOff x="2084400" y="3200400"/>
            <a:chExt cx="5943600" cy="297180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08440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22740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4217760" y="3200400"/>
              <a:ext cx="53352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62" name="" descr=""/>
            <p:cNvPicPr/>
            <p:nvPr/>
          </p:nvPicPr>
          <p:blipFill>
            <a:blip r:embed="rId6"/>
            <a:stretch/>
          </p:blipFill>
          <p:spPr>
            <a:xfrm>
              <a:off x="528480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642780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7494480" y="3200400"/>
              <a:ext cx="53352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</p:grp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2195640" y="3048120"/>
            <a:ext cx="6781680" cy="3382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6095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4d4d4d"/>
                </a:solidFill>
                <a:latin typeface="Arial"/>
              </a:rPr>
              <a:t>Vías del T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52840" y="4419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ormación Espiri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44600" y="3429000"/>
            <a:ext cx="7620120" cy="703440"/>
            <a:chOff x="1344600" y="3429000"/>
            <a:chExt cx="7620120" cy="703440"/>
          </a:xfrm>
        </p:grpSpPr>
        <p:sp>
          <p:nvSpPr>
            <p:cNvPr id="169" name=""/>
            <p:cNvSpPr/>
            <p:nvPr/>
          </p:nvSpPr>
          <p:spPr>
            <a:xfrm>
              <a:off x="1344600" y="3581280"/>
              <a:ext cx="7620120" cy="304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205163" dir="408967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4600" y="3429000"/>
              <a:ext cx="3352680" cy="703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127008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20406000">
            <a:off x="2123640" y="1844640"/>
            <a:ext cx="2394000" cy="3776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7840" y="4595400"/>
            <a:ext cx="4321080" cy="7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148360" y="1844640"/>
            <a:ext cx="3581280" cy="4405680"/>
            <a:chOff x="5148360" y="1844640"/>
            <a:chExt cx="3581280" cy="4405680"/>
          </a:xfrm>
        </p:grpSpPr>
        <p:sp>
          <p:nvSpPr>
            <p:cNvPr id="176" name=""/>
            <p:cNvSpPr/>
            <p:nvPr/>
          </p:nvSpPr>
          <p:spPr>
            <a:xfrm>
              <a:off x="5148360" y="5851440"/>
              <a:ext cx="35812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</a:rPr>
                <a:t>Guía de Estudio de la Bib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5724360" y="1844640"/>
              <a:ext cx="2554560" cy="39416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  <p:transition>
    <p:randomBar dir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124000" y="44280"/>
            <a:ext cx="243540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101680" y="3200400"/>
            <a:ext cx="5943600" cy="2971800"/>
            <a:chOff x="2101680" y="3200400"/>
            <a:chExt cx="5943600" cy="2971800"/>
          </a:xfrm>
        </p:grpSpPr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210168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324468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4235040" y="3200400"/>
              <a:ext cx="53352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530208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84" name="" descr=""/>
            <p:cNvPicPr/>
            <p:nvPr/>
          </p:nvPicPr>
          <p:blipFill>
            <a:blip r:embed="rId7"/>
            <a:stretch/>
          </p:blipFill>
          <p:spPr>
            <a:xfrm>
              <a:off x="6445080" y="3200400"/>
              <a:ext cx="53316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  <p:pic>
          <p:nvPicPr>
            <p:cNvPr id="185" name="" descr=""/>
            <p:cNvPicPr/>
            <p:nvPr/>
          </p:nvPicPr>
          <p:blipFill>
            <a:blip r:embed="rId8"/>
            <a:stretch/>
          </p:blipFill>
          <p:spPr>
            <a:xfrm>
              <a:off x="7511760" y="3200400"/>
              <a:ext cx="533520" cy="2971800"/>
            </a:xfrm>
            <a:prstGeom prst="rect">
              <a:avLst/>
            </a:prstGeom>
            <a:ln w="0">
              <a:noFill/>
            </a:ln>
            <a:effectLst>
              <a:outerShdw dist="127008" dir="2216091" blurRad="0" rotWithShape="0">
                <a:srgbClr val="808080"/>
              </a:outerShdw>
            </a:effectLst>
          </p:spPr>
        </p:pic>
      </p:grp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1873080" y="3048120"/>
            <a:ext cx="6782040" cy="338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78680" y="6095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4d4d4d"/>
                </a:solidFill>
                <a:latin typeface="Arial"/>
              </a:rPr>
              <a:t>Vías del T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30280" y="44197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ormación Espiri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15880" y="3429000"/>
            <a:ext cx="7620120" cy="703440"/>
            <a:chOff x="1415880" y="3429000"/>
            <a:chExt cx="7620120" cy="703440"/>
          </a:xfrm>
        </p:grpSpPr>
        <p:sp>
          <p:nvSpPr>
            <p:cNvPr id="190" name=""/>
            <p:cNvSpPr/>
            <p:nvPr/>
          </p:nvSpPr>
          <p:spPr>
            <a:xfrm>
              <a:off x="1415880" y="3581280"/>
              <a:ext cx="7620120" cy="304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205163" dir="408967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3429000"/>
              <a:ext cx="3352680" cy="703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127008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15880" y="5410080"/>
            <a:ext cx="7620120" cy="703440"/>
            <a:chOff x="1415880" y="5410080"/>
            <a:chExt cx="7620120" cy="703440"/>
          </a:xfrm>
        </p:grpSpPr>
        <p:sp>
          <p:nvSpPr>
            <p:cNvPr id="193" name=""/>
            <p:cNvSpPr/>
            <p:nvPr/>
          </p:nvSpPr>
          <p:spPr>
            <a:xfrm>
              <a:off x="1415880" y="5562720"/>
              <a:ext cx="7620120" cy="3045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216910" dir="4163966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5880" y="5410080"/>
              <a:ext cx="3352680" cy="703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  <a:effectLst>
              <a:outerShdw dist="115171" dir="502314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55640" y="333360"/>
            <a:ext cx="702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” 3 – El Maestro como Profe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63640" y="1844640"/>
            <a:ext cx="1728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1-P - Pas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1341360"/>
            <a:ext cx="4319640" cy="13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uede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RSON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Tendremos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63640" y="3500280"/>
            <a:ext cx="18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2-P - Profes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2997360"/>
            <a:ext cx="518472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be hacer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be hacer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RTICIP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be llevarlos a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ACTI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63640" y="530064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3-P - Promo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4869000"/>
            <a:ext cx="5435640" cy="13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grar la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RTICIP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sarrollar su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T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be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OMOCIONAR la l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260280"/>
            <a:ext cx="69850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9933"/>
                </a:solidFill>
                <a:latin typeface="Arial"/>
              </a:rPr>
              <a:t>LAS 3 “P” DEL MAE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484360" y="191628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Agradecidos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27640" y="1628640"/>
            <a:ext cx="1800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300720" y="3357720"/>
            <a:ext cx="180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NO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3860640"/>
            <a:ext cx="28209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atisfechos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6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uatro Preguntas para Pensar: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23640" y="1773360"/>
            <a:ext cx="6769080" cy="446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1.</a:t>
            </a: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¿Como vamos conservar tantos miembros en nuestras igles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La Apostasía es inevitable, la Biblia la prev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Cristo mismo la sufr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Pero, ¿Como hacer para que disminuya lo más po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ff99"/>
                </a:solidFill>
                <a:latin typeface="Arial"/>
              </a:rPr>
              <a:t>Nuestra responsabilidad no termina en el bautismo, más bien comienza en es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24000" y="1600200"/>
            <a:ext cx="673272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2. 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¿Cómo vamos resistir los engaños de Sataná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ff99"/>
                </a:solidFill>
                <a:latin typeface="Arial"/>
              </a:rPr>
              <a:t>Aparecen críticas que muestran claramente un alarmante infantilismo espirit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ff99"/>
                </a:solidFill>
                <a:latin typeface="Arial"/>
              </a:rPr>
              <a:t>Lo increíble de esas criticas es que, a veces encuentran terreno fért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ff99"/>
                </a:solidFill>
                <a:latin typeface="Arial"/>
              </a:rPr>
              <a:t>Está faltando estudio de la Bib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473200" y="705960"/>
            <a:ext cx="627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274680"/>
            <a:ext cx="6275520" cy="6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uatro Preguntas para Pensar: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68360" y="1599840"/>
            <a:ext cx="6624720" cy="485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3.</a:t>
            </a: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ccff99"/>
                </a:solidFill>
                <a:latin typeface="Arial"/>
              </a:rPr>
              <a:t>¿Cómo vamos preparar un pueblo para el encuentro con Jesú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ff99"/>
                </a:solidFill>
                <a:latin typeface="Arial"/>
              </a:rPr>
              <a:t>Cada minuto que pasa, nos acerca al retorno de nuestro Señ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ff99"/>
                </a:solidFill>
                <a:latin typeface="Arial"/>
              </a:rPr>
              <a:t>No estamos reaccionando como deberíamos, aun existe mucha tibi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473200" y="705960"/>
            <a:ext cx="627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274680"/>
            <a:ext cx="6275520" cy="6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uatro Preguntas para Pensar: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68360" y="1600200"/>
            <a:ext cx="6624720" cy="4525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ff99"/>
                </a:solidFill>
                <a:latin typeface="Arial"/>
              </a:rPr>
              <a:t>¿Cómo vamos a dirigir nuestro crecimiento con tan pocos past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ff99"/>
                </a:solidFill>
                <a:latin typeface="Arial"/>
                <a:ea typeface="Arial"/>
              </a:rPr>
              <a:t>•</a:t>
            </a:r>
            <a:r>
              <a:rPr b="0" lang="es-AR" sz="3200" spc="-1" strike="noStrike">
                <a:solidFill>
                  <a:srgbClr val="ccff99"/>
                </a:solidFill>
                <a:latin typeface="Arial"/>
              </a:rPr>
              <a:t>     </a:t>
            </a:r>
            <a:r>
              <a:rPr b="0" lang="es-AR" sz="3200" spc="-1" strike="noStrike">
                <a:solidFill>
                  <a:srgbClr val="ccff99"/>
                </a:solidFill>
                <a:latin typeface="Arial"/>
              </a:rPr>
              <a:t>El galopante crecimiento de nuestra membresía no es acompañado por el crecimiento de pastores, como sería lo id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74680"/>
            <a:ext cx="6275520" cy="63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uatro Preguntas para Pensar: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3:06:20Z</dcterms:created>
  <dc:creator>Ivan</dc:creator>
  <dc:description/>
  <dc:language>en-US</dc:language>
  <cp:lastModifiedBy>Ivan</cp:lastModifiedBy>
  <dcterms:modified xsi:type="dcterms:W3CDTF">2007-03-21T16:55:10Z</dcterms:modified>
  <cp:revision>121</cp:revision>
  <dc:subject/>
  <dc:title>Slide 1</dc:title>
</cp:coreProperties>
</file>